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97D-ABE3-4EAC-862B-AE2C02A2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EC9-41BF-4D62-96C0-17C5D834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4ED-E0E0-44FC-92A8-D154BE3C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F28-16D8-43B6-B7BE-87AD5D16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654-97DB-4A1F-BA17-51DFC2C3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DD3-29F5-41CF-814E-2DFF44CB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391-7D3A-4631-B164-EC419134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5B4-2029-40C1-84C5-933FBFE4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CF9-262F-42BC-8F4B-1327978B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95E-7D82-4054-80EA-8E5F6D1F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55D1-1964-4394-8433-3380C80E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47A3-D3CE-4B84-90E7-2243A08E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4FB1-7472-4D34-9E15-FDF5658E8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DELE SAU PARABOL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E PENTRU VIATA CRES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sus i-a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învăţat pe oameni p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46" name="_s24590"/>
            <p:cNvCxnSpPr>
              <a:stCxn id="47" idx="0"/>
              <a:endCxn id="48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24589"/>
            <p:cNvCxnSpPr>
              <a:stCxn id="50" idx="0"/>
              <a:endCxn id="48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24588"/>
            <p:cNvCxnSpPr>
              <a:stCxn id="52" idx="0"/>
              <a:endCxn id="48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24584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100" spc="-1" strike="noStrike">
                  <a:solidFill>
                    <a:srgbClr val="000000"/>
                  </a:solidFill>
                  <a:latin typeface="Arial"/>
                </a:rPr>
                <a:t>IISU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100" spc="-1" strike="noStrike">
                  <a:solidFill>
                    <a:srgbClr val="000000"/>
                  </a:solidFill>
                  <a:latin typeface="Arial"/>
                </a:rPr>
                <a:t>INVATATORU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4585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100" spc="-1" strike="noStrike">
                  <a:solidFill>
                    <a:srgbClr val="000000"/>
                  </a:solidFill>
                  <a:latin typeface="Arial"/>
                </a:rPr>
                <a:t>PILD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4586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100" spc="-1" strike="noStrike">
                  <a:solidFill>
                    <a:srgbClr val="000000"/>
                  </a:solidFill>
                  <a:latin typeface="Arial"/>
                </a:rPr>
                <a:t>MINUN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4587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100" spc="-1" strike="noStrike">
                  <a:solidFill>
                    <a:srgbClr val="000000"/>
                  </a:solidFill>
                  <a:latin typeface="Arial"/>
                </a:rPr>
                <a:t>EXEMPLUL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100" spc="-1" strike="noStrike">
                  <a:solidFill>
                    <a:srgbClr val="000000"/>
                  </a:solidFill>
                  <a:latin typeface="Arial"/>
                </a:rPr>
                <a:t>PERS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Pilda samariteanului milost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amenii trebuie s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-si ajute semenii aflati in suferin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ţ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eori trebuie s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facem aceasta chiar dac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risc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 unele lucr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u este suficient s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ajut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 pur si simplu pe cineva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trebuie s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ne preocupe 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 ceea ce se va 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t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pla cu acea persoan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 vi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0560" y="1600200"/>
            <a:ext cx="391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Arial Rounded MT Bold"/>
              </a:rPr>
              <a:t>Pilda vamesului si a fariseul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Bodoni MT"/>
              </a:rPr>
              <a:t>ne este oferit un modelul de rugăciune al omului mândru şi al celui sme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Bodoni MT"/>
              </a:rPr>
              <a:t>putem identifica în biserică fiecare din aceste modele, deşi Iisus a specificat caracterul rugăciunii 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0560" y="1600200"/>
            <a:ext cx="39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 Rounded MT Bold"/>
              </a:rPr>
              <a:t>Pilda celor zece fecio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Bodoni MT"/>
              </a:rPr>
              <a:t>Cele zece fecio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40388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6:21:00Z</dcterms:created>
  <dc:creator>cursant</dc:creator>
  <dc:description/>
  <dc:language>en-US</dc:language>
  <cp:lastModifiedBy>cursant</cp:lastModifiedBy>
  <dcterms:modified xsi:type="dcterms:W3CDTF">2010-09-03T09:17:58Z</dcterms:modified>
  <cp:revision>5</cp:revision>
  <dc:subject/>
  <dc:title>PILDE SAU PARABOLE</dc:title>
</cp:coreProperties>
</file>